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1CC-295B-42E8-A118-58B482EEB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BA6-BF78-45E4-A214-44D71701E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072-5EC6-4A94-8C19-5A1151974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C45-79C1-4CF0-95B8-46A9C20B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BFC-A1D3-492B-A0CF-E2531348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D07-2592-4BF8-AC8A-79CDA328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32D-E3B9-48E1-87FF-753B8D8E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A8D-5575-4087-A9F8-E18331AB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2E5-F544-4850-819E-0AD2F20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45A-FAFC-47DA-A311-03AC62B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505-030F-4302-84D7-B07AAAF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143-F762-49D2-9CBE-65E2E790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386-21DC-4F0F-B029-C21E947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0A2-DB91-4985-BA10-147C064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7B5-DFCB-4B23-A192-97A1858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2CC-E801-4D1B-850C-2A0FED2CC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73C-4444-451E-8013-389BA6C21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ymag.com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UTOMATIC ENERGY EFFICIENT EMERGENCY LAMP USING PULSE WIDTH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1CDF-BDB6-4628-BA2B-19230A52A671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1C29-A61A-4D80-BCF9-BE9B8379028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380880" y="263520"/>
            <a:ext cx="86108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. Components are easily available and low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switches ON when the mains fails and turns OFF when mains power resumes. Also has its own battery charger which when fully charged stops charging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our lives simpler , convenient to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ono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sumption is very less , proves to be more economic for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light per watt than incandescent bu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emit of an intended color without use of color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/off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ght up very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c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subjected to frequent on-off 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dimmed by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7DC-8006-4FCB-A461-8A7814BF0EE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A22-B4C9-4665-AAFF-58DBF22AE39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76212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stly fail by dimming over time, rather than abrupt burn-out of incandescent bu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ng useful lif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Ds do not contain mercury, unlike fluorescent l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ly more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e 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formance largely depends on the operating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lth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ol white LEDs can cause problems to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3D03-A625-44D8-B5A0-4B233E4453D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0880" y="5335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was concluded to be  innovative for the improvement of day today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lso adds a new look to the traditional l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WM helps us to reduce the wastage of energ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implementing this circuit is also very less - an added advantage in using this circu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14DA-717D-4ABC-969A-A8569697A01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gain modernize this project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expected that with additional development and growing researches, the PWM will gain more popularity and the cost of these bulbs will eventually dec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roject can be adopted for mass production as cheap and efficien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5AD-E773-45AF-AAAE-8BDFDA1D6E4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FDEE-4B8B-4EF8-9EB4-E39B30619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C58-2BAC-488E-B5B2-5E94AB3A1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My Documents\My Pictures\20100701\01072010116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akwad R.A.,OPAMPS &amp; Linear Integrated circuits, Prentice hall of In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 man J.,Microelectronics c Graw H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B Gupta.,Electronic devices and circuits, katson educational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efymag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wikipedia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29F-0D38-4397-99A2-BEB9D862679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TIVE STUDY OF CIRCUIT WITH AND WITHOUT PW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6B94-922E-4DB6-B262-D8ED8833DA2C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demand for the saving of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in power supply causes difficulty and in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omatic emergency lamp that uses L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bright due to use of white L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s on when mains supply fails ,turns off when power resu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own battery charger –stops  charging automatically when ful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ject aims to develop most power efficient and user friendly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DD8D-B806-41E4-B77E-B0293B5CD333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ower consumption by using a low-cost, automatic white LED based emergency lamp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E15F-FBC4-46AC-B6B5-69F45C30AEF0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A34-69B0-4E3C-9C43-6BF2B5F3FA16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182880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44956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886200" y="4495680"/>
            <a:ext cx="19051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DGE RECTIFIE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477120" y="449568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GULATION USING LM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838080" y="1828800"/>
            <a:ext cx="21337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962520" y="1828800"/>
            <a:ext cx="19047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WM USING ASTABLE OPERATION OF 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2"/>
          <p:cNvSpPr/>
          <p:nvPr/>
        </p:nvSpPr>
        <p:spPr>
          <a:xfrm>
            <a:off x="3124080" y="5029200"/>
            <a:ext cx="762120" cy="380880"/>
          </a:xfrm>
          <a:prstGeom prst="rightArrow">
            <a:avLst>
              <a:gd name="adj1" fmla="val 63796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3"/>
          <p:cNvSpPr/>
          <p:nvPr/>
        </p:nvSpPr>
        <p:spPr>
          <a:xfrm>
            <a:off x="5791320" y="5029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4"/>
          <p:cNvSpPr/>
          <p:nvPr/>
        </p:nvSpPr>
        <p:spPr>
          <a:xfrm>
            <a:off x="7162920" y="3200400"/>
            <a:ext cx="457200" cy="129528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eft Arrow 15"/>
          <p:cNvSpPr/>
          <p:nvPr/>
        </p:nvSpPr>
        <p:spPr>
          <a:xfrm>
            <a:off x="5867280" y="2362320"/>
            <a:ext cx="6858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Arrow 16"/>
          <p:cNvSpPr/>
          <p:nvPr/>
        </p:nvSpPr>
        <p:spPr>
          <a:xfrm>
            <a:off x="2971800" y="22860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281-7D6A-4AA8-B721-5ADB6DDCB3AC}" type="slidenum">
              <a:rPr b="1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kt 22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1" marL="12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rcuit has three section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r power supply section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: steps down(9V,500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rectifier: rectifies transformer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317: voltage reg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: provides supply when mains f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er diode: conducts when battery crosses its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08660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7057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BD62-AC70-45B6-86DE-CB83CE10EC5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 timer 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LED section by PW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driver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round BD 1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white LEDs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section glows when mains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to blink using astable operation of 5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fulltime ON due to persistence of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out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3962520"/>
          <a:ext cx="3733560" cy="2590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LED = 2.74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LED = 2.5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6.85 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822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23920" y="609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2" descr="ckt 22.png"/>
          <p:cNvPicPr/>
          <p:nvPr/>
        </p:nvPicPr>
        <p:blipFill>
          <a:blip r:embed="rId1"/>
          <a:stretch/>
        </p:blipFill>
        <p:spPr>
          <a:xfrm>
            <a:off x="4800600" y="1371600"/>
            <a:ext cx="38862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2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871D-EC68-415F-A053-14215FB1259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ed-emergency.jp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3962520"/>
          <a:ext cx="3981600" cy="261144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 LED  = 2.96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 LED  = 2.7 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7.992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95904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1:15:37Z</dcterms:created>
  <dc:creator/>
  <dc:description>Electrical Projects</dc:description>
  <dc:language>en-US</dc:language>
  <cp:lastModifiedBy>Brigade</cp:lastModifiedBy>
  <dcterms:modified xsi:type="dcterms:W3CDTF">2011-08-24T20:07:47Z</dcterms:modified>
  <cp:revision>0</cp:revision>
  <dc:subject>Electrical Projects</dc:subject>
  <dc:title>EEE IEEE Projects</dc:title>
</cp:coreProperties>
</file>